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-2009 National Academy Found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ADE1-53D0-4AEC-9D7F-8CC534A3B7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258B-3F76-4B47-940A-47D21A6047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7"/>
          <p:cNvSpPr/>
          <p:nvPr/>
        </p:nvSpPr>
        <p:spPr>
          <a:xfrm>
            <a:off x="0" y="86853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A404-7F60-4E0C-B578-4E67650D46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33520" y="4191120"/>
            <a:ext cx="57909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7"/>
          <p:cNvSpPr/>
          <p:nvPr/>
        </p:nvSpPr>
        <p:spPr>
          <a:xfrm>
            <a:off x="0" y="86853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5806-9708-4FD9-AAEF-3351119D8E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7"/>
          <p:cNvSpPr/>
          <p:nvPr/>
        </p:nvSpPr>
        <p:spPr>
          <a:xfrm>
            <a:off x="0" y="86853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7806-0C3F-45A2-A00A-3D26FBCE0B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7"/>
          <p:cNvSpPr/>
          <p:nvPr/>
        </p:nvSpPr>
        <p:spPr>
          <a:xfrm>
            <a:off x="0" y="86853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8433-779A-46B0-BEC9-C2C03673FF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7"/>
          <p:cNvSpPr/>
          <p:nvPr/>
        </p:nvSpPr>
        <p:spPr>
          <a:xfrm>
            <a:off x="0" y="86853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F821-2D89-4C3D-8467-DC127C0C5F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7"/>
          <p:cNvSpPr/>
          <p:nvPr/>
        </p:nvSpPr>
        <p:spPr>
          <a:xfrm>
            <a:off x="0" y="86853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8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25B50-CBC8-49D8-8DB8-ABAF835E0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786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64E4-005A-43F4-883C-C2CFE5FDA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8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78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F9C5-9DAC-4E97-A920-02741653D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3712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3712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78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78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78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5A3BE-1F1B-4C6F-9EF7-82BB72FE6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240" y="-7668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878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C56CA-0BB8-463D-822E-686579C62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040" y="3878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8786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8786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878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040" y="3878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5160" y="13712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9440" y="13712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878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5160" y="3878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9440" y="3878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99420-566C-4711-85FD-A229F9B7A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7D04-37CE-4974-9009-1F5D21571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6C877-C3F2-4DF4-A2F6-E1566E738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-7668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6A69-EC25-417D-AD52-A78A1C92D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78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99C41-610B-4CE2-B026-67199EA3A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78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7F072-D8C8-47E8-8AF9-F1FD278D5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786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CD128-D4DF-4185-AA41-335F653AE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b5a9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2b5a9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2b5a9c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3" marL="1600200" indent="-228600">
              <a:spcBef>
                <a:spcPts val="550"/>
              </a:spcBef>
              <a:buClr>
                <a:srgbClr val="2b5a9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-228600">
              <a:spcBef>
                <a:spcPts val="550"/>
              </a:spcBef>
              <a:buClr>
                <a:srgbClr val="2b5a9c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6960" y="61718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b5a9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F56F-9D00-4EDC-BB89-47EF12E1EE6B}" type="slidenum">
              <a:rPr b="0" lang="en-US" sz="1000" spc="-1" strike="noStrike">
                <a:solidFill>
                  <a:srgbClr val="2b5a9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1" descr="PPT footer"/>
          <p:cNvPicPr/>
          <p:nvPr/>
        </p:nvPicPr>
        <p:blipFill>
          <a:blip r:embed="rId2"/>
          <a:stretch/>
        </p:blipFill>
        <p:spPr>
          <a:xfrm>
            <a:off x="0" y="6583320"/>
            <a:ext cx="9144000" cy="2746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762120"/>
            <a:ext cx="9144000" cy="218880"/>
          </a:xfrm>
          <a:prstGeom prst="rect">
            <a:avLst/>
          </a:prstGeom>
          <a:gradFill rotWithShape="0">
            <a:gsLst>
              <a:gs pos="0">
                <a:srgbClr val="335c9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PPT footer"/>
          <p:cNvPicPr/>
          <p:nvPr/>
        </p:nvPicPr>
        <p:blipFill>
          <a:blip r:embed="rId2"/>
          <a:stretch/>
        </p:blipFill>
        <p:spPr>
          <a:xfrm>
            <a:off x="0" y="6583320"/>
            <a:ext cx="9144000" cy="2746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0" y="1676520"/>
            <a:ext cx="9144000" cy="777600"/>
          </a:xfrm>
          <a:prstGeom prst="rect">
            <a:avLst/>
          </a:prstGeom>
          <a:gradFill rotWithShape="0">
            <a:gsLst>
              <a:gs pos="0">
                <a:srgbClr val="335c9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b5a9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2b5a9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2b5a9c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3" marL="1600200" indent="-228600">
              <a:spcBef>
                <a:spcPts val="550"/>
              </a:spcBef>
              <a:buClr>
                <a:srgbClr val="2b5a9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-228600">
              <a:spcBef>
                <a:spcPts val="550"/>
              </a:spcBef>
              <a:buClr>
                <a:srgbClr val="2b5a9c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9/9c/Dsl_schematic.sv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74320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Unit 5, Lesson 12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Internet Service Providers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762120" y="380880"/>
            <a:ext cx="7391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AOIT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Computer Networking</a:t>
            </a:r>
            <a:endParaRPr b="0" i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680" y="6653160"/>
            <a:ext cx="3557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08–2011 National Academy Foundation. All rights reserved.</a:t>
            </a:r>
            <a:endParaRPr b="0" i="1" lang="en-US" sz="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36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ternet service providers connect you to the Net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2" name="Rectangle 47"/>
          <p:cNvSpPr/>
          <p:nvPr/>
        </p:nvSpPr>
        <p:spPr>
          <a:xfrm>
            <a:off x="380880" y="1371600"/>
            <a:ext cx="7543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b5a9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nternet service providers (ISPs) sell you a connection to the Internet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b5a9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ypes of ISP connections include DSL, cable, satellite, dial-up, and leased line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b5a9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SPs may also provide free email accounts, web space, or access to local newsgroups.</a:t>
            </a: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Text Box 51"/>
          <p:cNvSpPr/>
          <p:nvPr/>
        </p:nvSpPr>
        <p:spPr>
          <a:xfrm>
            <a:off x="152280" y="5562720"/>
            <a:ext cx="434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36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SL ISPs are usually phone companies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At the customer end, there is a DSL modem and a phone filter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At the ISP end, there is a DSL Access Multiplexer (DSLAM) to receive customer connections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96" name="Picture 9" descr="File:Dsl schematic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666880"/>
            <a:ext cx="7620120" cy="44578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2"/>
          <p:cNvSpPr/>
          <p:nvPr/>
        </p:nvSpPr>
        <p:spPr>
          <a:xfrm>
            <a:off x="4952880" y="5416560"/>
            <a:ext cx="388620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plain what’s happening in this diagram. </a:t>
            </a:r>
            <a:endParaRPr b="0" i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36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ble ISPs are usually cable TV companies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3818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At the customer end, you install a cable modem that has a USB port, an Ethernet port, or both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Internet information is transported on the same cables that transport cable TV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00" name="Picture 2" descr="http://ikeelliott.typepad.com/photos/uncategorized/2008/03/19/hfc_network_diagram.jpg"/>
          <p:cNvPicPr/>
          <p:nvPr/>
        </p:nvPicPr>
        <p:blipFill>
          <a:blip r:embed="rId1"/>
          <a:stretch/>
        </p:blipFill>
        <p:spPr>
          <a:xfrm>
            <a:off x="3706920" y="3048120"/>
            <a:ext cx="5284800" cy="2798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8"/>
          <p:cNvSpPr/>
          <p:nvPr/>
        </p:nvSpPr>
        <p:spPr>
          <a:xfrm>
            <a:off x="609480" y="2722680"/>
            <a:ext cx="312444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b5a9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Data coming from the Internet to your cable modem uses a 6 MHz channel, just like a single channel of cable TV.</a:t>
            </a:r>
            <a:endParaRPr b="0" i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5a9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Data going from your cable modem to the Internet requires just 2 MHz of bandwidth.</a:t>
            </a:r>
            <a:endParaRPr b="0" i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36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atellite ISPs beam to a satellite from a network operations center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1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Each customer installs an antenna that connects to a small satellite dish. This connects to an indoor unit that connects to a computer using a USB connector.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marL="294840" indent="-294840">
              <a:spcBef>
                <a:spcPts val="11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Requests for web pages are beamed from the satellite dish to a satellite orbiting Earth.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marL="294840" indent="-294840">
              <a:spcBef>
                <a:spcPts val="11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he satellite beams the request back to the ISP’s network operations center (NOC).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marL="294840" indent="-294840">
              <a:spcBef>
                <a:spcPts val="11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he NOC requests the web page and then beams the page up to the satellite, which in turn beams it back down to the customer’s satellite dish. </a:t>
            </a:r>
            <a:br>
              <a:rPr sz="24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29484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294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294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Text Box 52"/>
          <p:cNvSpPr/>
          <p:nvPr/>
        </p:nvSpPr>
        <p:spPr>
          <a:xfrm>
            <a:off x="533520" y="6046920"/>
            <a:ext cx="830556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Can you draw a diagram of this transmission procedure? </a:t>
            </a:r>
            <a:endParaRPr b="0" i="1" lang="en-US" sz="2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336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Your ISP connects your home to the Internet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7086600" y="1371600"/>
            <a:ext cx="1523880" cy="502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 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495680" y="2895480"/>
            <a:ext cx="21337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 ISP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33520" y="2209680"/>
            <a:ext cx="35049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9" name="Picture 8" descr="CLIENT-SERVER-NETWK"/>
          <p:cNvPicPr/>
          <p:nvPr/>
        </p:nvPicPr>
        <p:blipFill>
          <a:blip r:embed="rId1"/>
          <a:stretch/>
        </p:blipFill>
        <p:spPr>
          <a:xfrm>
            <a:off x="990720" y="2666880"/>
            <a:ext cx="2743200" cy="2343240"/>
          </a:xfrm>
          <a:prstGeom prst="rect">
            <a:avLst/>
          </a:prstGeom>
          <a:ln w="0">
            <a:noFill/>
          </a:ln>
        </p:spPr>
      </p:pic>
      <p:sp>
        <p:nvSpPr>
          <p:cNvPr id="110" name="Line 9"/>
          <p:cNvSpPr/>
          <p:nvPr/>
        </p:nvSpPr>
        <p:spPr>
          <a:xfrm>
            <a:off x="2286000" y="1219320"/>
            <a:ext cx="2057400" cy="11430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4038480" y="4724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 flipH="1">
            <a:off x="228240" y="1219320"/>
            <a:ext cx="2133720" cy="11430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647712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Picture 13" descr="Server Image"/>
          <p:cNvPicPr/>
          <p:nvPr/>
        </p:nvPicPr>
        <p:blipFill>
          <a:blip r:embed="rId2"/>
          <a:stretch/>
        </p:blipFill>
        <p:spPr>
          <a:xfrm>
            <a:off x="4876920" y="3657600"/>
            <a:ext cx="1352520" cy="1457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Server Image"/>
          <p:cNvPicPr/>
          <p:nvPr/>
        </p:nvPicPr>
        <p:blipFill>
          <a:blip r:embed="rId3"/>
          <a:stretch/>
        </p:blipFill>
        <p:spPr>
          <a:xfrm>
            <a:off x="7162920" y="2590920"/>
            <a:ext cx="1352520" cy="1457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j0335112"/>
          <p:cNvPicPr/>
          <p:nvPr/>
        </p:nvPicPr>
        <p:blipFill>
          <a:blip r:embed="rId4"/>
          <a:stretch/>
        </p:blipFill>
        <p:spPr>
          <a:xfrm>
            <a:off x="7315200" y="518148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6"/>
          <p:cNvSpPr/>
          <p:nvPr/>
        </p:nvSpPr>
        <p:spPr>
          <a:xfrm>
            <a:off x="1601640" y="17524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House</a:t>
            </a:r>
            <a:endParaRPr b="0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Line 17"/>
          <p:cNvSpPr/>
          <p:nvPr/>
        </p:nvSpPr>
        <p:spPr>
          <a:xfrm flipH="1">
            <a:off x="7772040" y="434340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457200" y="5634000"/>
            <a:ext cx="62485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hat do you call a large network that connects many smaller local area networks?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7:08:03Z</dcterms:created>
  <dc:creator>arothstein</dc:creator>
  <dc:description/>
  <dc:language>en-US</dc:language>
  <cp:lastModifiedBy>cynth</cp:lastModifiedBy>
  <dcterms:modified xsi:type="dcterms:W3CDTF">2011-06-01T17:35:12Z</dcterms:modified>
  <cp:revision>434</cp:revision>
  <dc:subject/>
  <dc:title>Slide 1</dc:title>
</cp:coreProperties>
</file>